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21D-2547-4FCF-82B7-52BCC5CD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4773960"/>
            <a:ext cx="854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E279-5097-448B-BE51-E4B9E3CA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477396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477396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BB8A-495B-4CE8-A393-07F140DC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82844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82844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477396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477396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477396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85A-80AF-4C17-B0C7-37098C49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3EB7-9B80-4629-A690-1FF6BC14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0CFF-30F2-4A2A-B5EC-4957506A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DBC8-DE6F-41C2-8D8D-6E3C9E74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4167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828440"/>
            <a:ext cx="4167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7E36-3359-4B4E-926C-93656387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ADF5-52CE-40FA-A84C-E269BABE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A805-86B1-4650-BBA6-414F70DC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828440"/>
            <a:ext cx="4167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77396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BAFB-039C-49B9-831C-B4450E37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580-40B8-4A0A-9B5B-A4F5F3CD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4167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477396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B1BD-AE21-4275-AE70-63431A36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4773960"/>
            <a:ext cx="854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73E3-5265-4B33-B9C8-2DB86718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4773960"/>
            <a:ext cx="854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0472-2B05-4616-85CF-06A5CDD0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477396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477396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E6D6-6E29-4387-BF83-4227C686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82844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82844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477396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477396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477396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61FF-4D47-4647-A7E4-2F5975A3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C4F6-8C99-49F3-9B44-1342B31D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4167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828440"/>
            <a:ext cx="4167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EED-43B3-4123-9E12-8DBF73E7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AB5-68BE-411D-8E80-B37E3BA3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BD3-EBAA-439D-BBFD-26FFE825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828440"/>
            <a:ext cx="4167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477396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FC4-1C35-4D38-81D3-323232D6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4167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477396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553-AE19-4BE6-987E-16D53479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4773960"/>
            <a:ext cx="854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DC8-4A09-42B8-A57C-C288F31D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85a68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E95C-AA26-48E2-93B7-6D4E5CAAA8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85a68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87D0-A189-4BF2-A959-1D1712D0E3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hapter 13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N AGE OF EXPANSIONISM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merica Past and Pre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ighth Edi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vine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ee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Fredrickso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William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Gros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Mormons Trek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mons in Uta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2195640"/>
            <a:ext cx="8540640" cy="527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47: State of Deseret established, technically in Mexican terri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ert transformed into farm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48: U.S. gets Utah and Mormons at first resist U.S. gover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57: Brigham Young accepts post as territorial governor of Ut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estern Trai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0" name="Picture 4" descr="DIVI7233258"/>
          <p:cNvPicPr/>
          <p:nvPr/>
        </p:nvPicPr>
        <p:blipFill>
          <a:blip r:embed="rId1"/>
          <a:stretch/>
        </p:blipFill>
        <p:spPr>
          <a:xfrm>
            <a:off x="838080" y="1676520"/>
            <a:ext cx="7620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ler and Tex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548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41: John Tyler assumes presidency after William Henry Harrison’s dea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ler breaks with Whi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44: Tyler negotiates annexation with Texas for re-election campaign iss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ate refuses to ratify because of expansion of sla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ler loses Whig nomination to Henry Cl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nexation by joint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6" name="Content Placeholder 3" descr="10jt_header_sm.jpeg"/>
          <p:cNvPicPr/>
          <p:nvPr/>
        </p:nvPicPr>
        <p:blipFill>
          <a:blip r:embed="rId1"/>
          <a:srcRect l="0" t="-8470" r="0" b="-8470"/>
          <a:stretch/>
        </p:blipFill>
        <p:spPr>
          <a:xfrm>
            <a:off x="228600" y="838080"/>
            <a:ext cx="85406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riumph of Polk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d Annex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crats nominate James K. Pol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k runs on expansionist plat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nexation of Texas for Southern vo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.S. jurisdiction of Oregon for Northern vo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mes Birney and Liberty Party take votes away from Clay over the expansion of sla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k, Congress interpret his election as mandate for expa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as annexed by joint resolution shortly before Polk inaugu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Liberty Party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wings an Ele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2" name="Picture 4" descr="DIVI7233TB1301"/>
          <p:cNvPicPr/>
          <p:nvPr/>
        </p:nvPicPr>
        <p:blipFill>
          <a:blip r:embed="rId1"/>
          <a:srcRect l="0" t="17363" r="0" b="277"/>
          <a:stretch/>
        </p:blipFill>
        <p:spPr>
          <a:xfrm>
            <a:off x="304920" y="2895480"/>
            <a:ext cx="8572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Election of 1844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4" name="Picture 4" descr="DIVI7233TB1302"/>
          <p:cNvPicPr/>
          <p:nvPr/>
        </p:nvPicPr>
        <p:blipFill>
          <a:blip r:embed="rId1"/>
          <a:srcRect l="0" t="22220" r="0" b="4441"/>
          <a:stretch/>
        </p:blipFill>
        <p:spPr>
          <a:xfrm>
            <a:off x="380880" y="2514600"/>
            <a:ext cx="8344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6" name="Content Placeholder 3" descr="11jp_header.jpeg"/>
          <p:cNvPicPr/>
          <p:nvPr/>
        </p:nvPicPr>
        <p:blipFill>
          <a:blip r:embed="rId1"/>
          <a:srcRect l="0" t="-8559" r="0" b="-8559"/>
          <a:stretch/>
        </p:blipFill>
        <p:spPr>
          <a:xfrm>
            <a:off x="304920" y="685800"/>
            <a:ext cx="8540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Doctrine of Manifest Desti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Manifest Destiny" first used in 1845 by John O’ Sulli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wants the U.S., His chosen nation, to become stron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s make new territories free and democra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wing American population needs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s to American expansion undef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k and the Oregon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4’ 40” or figh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ate approves division of Oregon along 4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orth latitude, Treaty of 184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ern expansionists condemned Polk for divi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vement to the Far We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settlement reaches Pacific in 1830s and 1840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tlement encroaches on lands claimed by Mexico and Eng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orthwest Boundary Dispu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6" name="Picture 4" descr="DIVI7233260"/>
          <p:cNvPicPr/>
          <p:nvPr/>
        </p:nvPicPr>
        <p:blipFill>
          <a:blip r:embed="rId1"/>
          <a:stretch/>
        </p:blipFill>
        <p:spPr>
          <a:xfrm>
            <a:off x="2133720" y="1447920"/>
            <a:ext cx="4867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 with Mexico: Outbrea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an claim to area between Nueces and Rio Grande Rivers not recognized by Me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exas annexation, this causes conflict between U.S. and Me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k orders General Zachary Taylor into disputed a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 with Mexico: Cour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Zachary Taylor wins campaign in northern Me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tember, 1847: General Winfield Scott occupies Mexico 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3" name="Picture 5" descr="200px-General-Winfield-Scott-(1786-1866)1835.jpeg"/>
          <p:cNvPicPr/>
          <p:nvPr/>
        </p:nvPicPr>
        <p:blipFill>
          <a:blip r:embed="rId1"/>
          <a:stretch/>
        </p:blipFill>
        <p:spPr>
          <a:xfrm>
            <a:off x="5362560" y="3637080"/>
            <a:ext cx="2540160" cy="30985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6" descr="taylor.jpg.pagespeed.ce.0-rHr5t0r8.jpeg"/>
          <p:cNvPicPr/>
          <p:nvPr/>
        </p:nvPicPr>
        <p:blipFill>
          <a:blip r:embed="rId2"/>
          <a:stretch/>
        </p:blipFill>
        <p:spPr>
          <a:xfrm>
            <a:off x="2057400" y="3962520"/>
            <a:ext cx="1968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ttlement of the Mexican-American War: Ter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cholas Trist, the negotiator with Mexico,  disobeys Polk’s orders to return to Washing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bruary, 1848: Treaty of Guadalupe Hidalg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o Grande becomes southern b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Mexico, California ceded to U.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.S. pays Mexico $15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ttlement of the Mexican-American War: Aftermat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the U.S. did not annex all of Me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k Thesis: racism and anti-colonial heri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ebner: U.S. only wanted west coast ports, no need for rest of Mex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xican War politically contenti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gs constantly criticized war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erners view war as aimed at increasing slavery and Southern po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mont Provi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ifest Destiny ultimately limited by racism and slavery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Mexican-American W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62" name="Picture 4" descr="DIVI7233263"/>
          <p:cNvPicPr/>
          <p:nvPr/>
        </p:nvPicPr>
        <p:blipFill>
          <a:blip r:embed="rId1"/>
          <a:stretch/>
        </p:blipFill>
        <p:spPr>
          <a:xfrm>
            <a:off x="1295280" y="1542960"/>
            <a:ext cx="65534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ernal Expansion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ng Americans”  link territorial growth to other material achiev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ological innovation—e.g. telegrap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portation improv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owth of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s immi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overy of California gold inspires transcontinental proj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rritorial expansion wanes after 1848, economic, population growth contin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riumph of the Railroa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2306160"/>
            <a:ext cx="8229600" cy="515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40s: railroad begins displacing cana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l construction stimulates iron indust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lroads stimulate new forms of fi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nd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ferred stoc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subsi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ailroads, 1850 and 186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70" name="Picture 4" descr="DIVI7233265"/>
          <p:cNvPicPr/>
          <p:nvPr/>
        </p:nvPicPr>
        <p:blipFill>
          <a:blip r:embed="rId1"/>
          <a:stretch/>
        </p:blipFill>
        <p:spPr>
          <a:xfrm>
            <a:off x="2057400" y="1447920"/>
            <a:ext cx="506736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Industrial Revolution Takes Off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901520"/>
            <a:ext cx="800100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 production, the division of labor makes production more effici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ory system emer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ther laborers in one place for superv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sh w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ous process" of manufactu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riculture becomes mechaniz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ern economy based on interaction of industry, transportation, 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rderlands of the 1830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42: Webster-Ashburton Treaty settles the northeast U.S.-Canadian bounda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s begin settling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egon territory (joint U.S., English clai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Mexico territory (owned by Mexico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ifornia (owned by Mexi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DIVI7233TB1303"/>
          <p:cNvPicPr/>
          <p:nvPr/>
        </p:nvPicPr>
        <p:blipFill>
          <a:blip r:embed="rId1"/>
          <a:stretch/>
        </p:blipFill>
        <p:spPr>
          <a:xfrm>
            <a:off x="1600200" y="5335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ss Immigration Begi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515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40-1860: 4 million Irish, Germans immigrate to U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come for higher w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igrants fill low-paying jobs in port c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 immigrant wages contribute to sl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ban reform movement results from poverty of sl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ing class experience unifies different ethnicities into an American working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migration to the United States, 1820–186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83" name="Picture 6" descr="DIVI243"/>
          <p:cNvPicPr/>
          <p:nvPr/>
        </p:nvPicPr>
        <p:blipFill>
          <a:blip r:embed="rId1"/>
          <a:stretch/>
        </p:blipFill>
        <p:spPr>
          <a:xfrm>
            <a:off x="2286000" y="1828800"/>
            <a:ext cx="4448160" cy="46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New Working Cla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2306160"/>
            <a:ext cx="8153280" cy="515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40s: Factory labor begins shifting from women, children to 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igrants dominate new working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ployers less involved with labor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-1837 employers demand more work for less p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ons organized to defend worker r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New Working Cla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ge laborers resent discipline, continuous nature of factory wor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ers cling to traditional work hab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justment to new work style was painful and took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Costs of Expan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523880"/>
            <a:ext cx="854064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ing class poses problem for ide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for wages was assumed to be the first step toward becoming one’s own m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class of permanent wage-earners conflicted with old id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conomic expansion creates conflicts between clas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ritorial expansion creates conflicts between sec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sets of conflicts uncontroll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erritorial Expansion by the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id-Nineteenth Centu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Picture 4" descr="DIVI7233254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exas Revol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201680"/>
            <a:ext cx="8540640" cy="51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20s: Americans encouraged to move into Tex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Anglos" never fully accept Mexican government rules on slavery and Catholic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30: Mexico bans immigration from U.S. and importing sla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35: Armed rebellion breaks out after Santa Anna seems bent on using military to enforce Mexican government poli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Republic of Tex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ch, 1836: Texans declare independence and the Alamo under sie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il, 1836: Santa Anna defeated at San Jaci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, 1836: Santa Anna’s treaty recognizes Texas' claim to territory (Mexico repudia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as offers free land grants to U.S. settl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nexation to U.S. refused by Jack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xas Revol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Picture 4" descr="DIVI7233256"/>
          <p:cNvPicPr/>
          <p:nvPr/>
        </p:nvPicPr>
        <p:blipFill>
          <a:blip r:embed="rId1"/>
          <a:stretch/>
        </p:blipFill>
        <p:spPr>
          <a:xfrm>
            <a:off x="2286000" y="1371600"/>
            <a:ext cx="4533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ails of Trade and Settl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nta Fe Trail closed to U.S. travelers as a result of Mexico’s war with Tex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egon Trail conduit for heavy stream of settlers to the Oregon cou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egon settlers demand an end to joint U.S.-British occu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Mormon Trek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estward Fligh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2122200"/>
            <a:ext cx="8540640" cy="534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urch of Jesus Christ of the Latter Day Saints founded by Joseph Smith, 18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mon church seeks revival of pure aboriginal American Christian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mons persecuted for unorthodox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e New York for Nauvoo, Illino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rder of Joseph Smith 18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gham Young becomes Mormon l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mons move to Great Salt Lake in Uta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2:57:10Z</dcterms:created>
  <dc:creator>CMU</dc:creator>
  <dc:description/>
  <cp:keywords/>
  <dc:language>en-US</dc:language>
  <cp:lastModifiedBy>Matthew Myers</cp:lastModifiedBy>
  <cp:lastPrinted>2012-10-11T23:32:59Z</cp:lastPrinted>
  <dcterms:modified xsi:type="dcterms:W3CDTF">2011-11-07T13:11:59Z</dcterms:modified>
  <cp:revision>14</cp:revision>
  <dc:subject/>
  <dc:title>CHAPTER 12 AN AGE OF EXPANSIONISM</dc:title>
</cp:coreProperties>
</file>